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B5B-5613-41D6-8A24-DECE2022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304-77A9-44DB-BE5D-0ABD8F87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656-8736-4945-94DA-D7596414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E09-61C1-4FF1-B793-CC85E4A6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EEF-CCAF-4585-971F-EA1AB572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4A5-7750-4830-A453-9BAF6E4E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937-B126-4A25-B481-16AA37A4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309-1165-4D19-A142-58396426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B47-FDC0-4E0F-88D9-83BEA634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64A-4FAB-404D-9FAF-78568171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7FF-BD2F-4AA2-9DBA-1285C46E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9EE-DC37-4556-B7CC-7F9F72E1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121D-0AAC-4F62-BB6C-2B0ADD05F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n%20título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n%20título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6:08:08Z</dcterms:created>
  <dc:creator>Grupo Editorial</dc:creator>
  <dc:description/>
  <dc:language>en-US</dc:language>
  <cp:lastModifiedBy>Grupo Editorial</cp:lastModifiedBy>
  <dcterms:modified xsi:type="dcterms:W3CDTF">2001-09-19T16:12:12Z</dcterms:modified>
  <cp:revision>1</cp:revision>
  <dc:subject/>
  <dc:title>Sin título de diapositiva</dc:title>
</cp:coreProperties>
</file>